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B024-2845-4635-89C1-AD7FF906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EF38-BA81-4ECC-9244-89A16E69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97D6-0F66-4002-94BF-8C47940B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A1B9-171F-4ADD-A8F7-10861919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218-9C89-4A97-B97E-B51F5342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55D-822B-40F1-9BB9-1CE7D29F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0B0-DEFE-4A6C-A947-9B847FE8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3BA5-3E1C-408D-A158-D7756F47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93F3-9D43-4757-B9AF-28447FA8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C41-AB3B-4D85-9E36-9FD0DA21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32C3-C3DE-48B6-8FDF-43EDF778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7F2-3B0F-40C2-A038-1C34C7CE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48AE-0DDB-4FDF-B775-76CD387CD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0904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A871-C33F-427D-9593-5201CE489E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904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 New REPs are scheduled to test in 09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Existing REPs testing in new terr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Existing REPs testing for D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xisting REPs testing for Bank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xisting REPs testing for change in EDI 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249-D527-42CF-96CA-26375A99F1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904 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 Flight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re-Flight activities were complete on schedule by 9/9/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Take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kicked off on schedule Monday 9/13/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uising Alt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ess As of 10/5/04 (Day 17 of Flight 09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.3% complete by task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cripts have required re-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71 Point to Point transactions outstanding through Day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ransactions in and out of ERCOT complete through Day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B91-C7E0-4E69-A989-1DAA8DB30A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904 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al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October RMS (10/14/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scheduled to be on Day 24 of Flight 09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total 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(5) scripts should be complete by th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November RMS (11/11/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scheduled to be on Day 44 of Flight 09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script (STK23) should be complete on Day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ight is expected to complete on time as scheduled with all testing completed success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D6C8-2E62-4061-86A0-4B2EB13856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10-05T21:47:09Z</dcterms:modified>
  <cp:revision>354</cp:revision>
  <dc:subject/>
  <dc:title>PowerPoint Presentation</dc:title>
</cp:coreProperties>
</file>